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7C1-A706-4C2B-B417-1561708E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2EE4-B5FD-4F78-ADEB-747DAFB4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809-1D18-4827-89DB-80C4E22A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BCB5-563A-4FFD-823F-227EED83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F07-47F0-4D21-A8FD-B2CFF231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E9E-3A08-4106-9320-DDDB166B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AC1-5ED6-4B95-BD33-40048C46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6208-8F04-4709-9309-0B3D5B9F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F9F6-9B08-461F-A5AD-10ED8E4B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3796-CA79-4577-B109-4698141A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D1A4-E6AF-44F6-9FC6-4A5CBABF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4B3A-64E6-4FB9-8019-9E3777E1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7255-7B5F-4C5B-BC9D-5133F127F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структаж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основные причины возникновения пожара в быту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правила поведения при пожар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329080" cy="3879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5373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Шалости детей: игра спичками, электроприборами и др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4027680" cy="4098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5589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ызовите службу спасения 0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894200" cy="37782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479736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 телефону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назови свое имя и фамилию; укажи, что именно горит; сообщи адре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4489200" cy="3367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5373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ообщи о возгорании любому взрослому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432400" cy="4074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537372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тключи газ, электроэнергию, закрой окна и двер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3744720" cy="2469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00720" y="2133720"/>
            <a:ext cx="3816360" cy="31906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53006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емедленно покиньте помещение, не бегите наугад, не мешкайте на вых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5288040" cy="3965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486900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акройтесь мокрой тканью (одеялом, полотенцем). Дышите через мокрый носовой платок, ткань, одеж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235480" cy="3819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1798560" cy="26971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3006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вигайтесь к выходу или в сторону незадымленной лестничной кле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5338800" cy="4003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494172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з задымленного помещения выбирайтесь пригнувшись или ползком - внизу дыма мен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4746600" cy="3797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3933720"/>
            <a:ext cx="871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Если нельзя использовать лестницы, прыгайте в окно. Сократите высоту прыжка, связав простыни. Прыгайте на полотняное покрытие грузовика, крышу машины, цветник, навес или на предварительно сброшенные матрасы, подушки, ков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11280" y="836640"/>
            <a:ext cx="4098960" cy="30402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9500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Непотушенные спич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278320" cy="45133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450864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Если выйти из помещения невозможно, заткните все зазоры под дверьми мокрыми тряпками; наполните водой ванну и другие большие емкости облейте пол и двери вод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759280" cy="32371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5229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е раскрывайте окна, т.к. приток воздуха только усилит г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4106880" cy="41068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5084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если есть возможность выйти на балкон, зови на помощ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40000" y="836640"/>
            <a:ext cx="4583160" cy="42084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5280" y="260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а поведения при пож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5445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 прибытии пожарных полностью подчинитесь их команд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4752720" cy="3562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92720" y="1125360"/>
            <a:ext cx="3205080" cy="22654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5516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Неосторожное использование керосиновых ламп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8120" y="1397160"/>
            <a:ext cx="3047760" cy="40636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37372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ебрежность при хранении легковоспламеняющихся материал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000760" cy="3765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8900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445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спользование металлических печей, не отвечающих правилам пожарной безопасности, оставлении печи без присмо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38440" y="1197000"/>
            <a:ext cx="33242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44500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арушение правил пользования электрическими прибор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743280" cy="2994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3273480" cy="28814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51664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ключение нескольких бытовых приборов в одну розет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1903320" cy="2016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47640" y="314172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877080" y="1052640"/>
            <a:ext cx="1811160" cy="3419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067280" y="2637000"/>
            <a:ext cx="2546280" cy="27781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486900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роткое замыкание, возникающее вследствие соединения двух проводников без изоля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12408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5280" y="260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ные причины возникновения пожара в бы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537372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еисправность бытовых газовых прибо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4891320" cy="3668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7:43:29Z</dcterms:created>
  <dc:creator>Ershova</dc:creator>
  <dc:description/>
  <dc:language>en-US</dc:language>
  <cp:lastModifiedBy>Наташа</cp:lastModifiedBy>
  <dcterms:modified xsi:type="dcterms:W3CDTF">2010-04-29T14:01:59Z</dcterms:modified>
  <cp:revision>48</cp:revision>
  <dc:subject/>
  <dc:title>Слайд 1</dc:title>
</cp:coreProperties>
</file>